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8EB4-027E-467A-B56A-8F1D8A27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764B-A4A3-46B9-A84D-61CF37A9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69C1C-64E0-4365-996B-8C057332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EA23C-4BE9-47F0-A9EF-A4208675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38811D-916F-4787-BEE5-CF4DFC43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12BB2-E448-4A4B-8B15-4AB2EB0A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28D26-BC26-4DF1-8B98-9686FEFB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87DFB-FDB6-45E3-94AF-000BC7E7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12565-E231-473F-8A72-E2003583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E7071-FD86-4F39-A51C-0776AA5A6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BF1CC-5E7B-42E3-82EE-B91AB8BA1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4CA0C-8227-432B-8583-FF6697D04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3421-87E0-4DAD-90E5-00B27BFD4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A7EBC3-1C70-4438-966A-43B8DC9E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FCBF68-4419-493C-8CCD-B1C91BC2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A6513-811D-46E4-9E3C-4261C068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EB879-4C96-4870-8C16-02865EF6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8AEE14-77EA-411E-A3D8-7F73D523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FA39C-DE5C-40FF-829D-56E281BC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5A56A-F489-47A9-8066-1B6880CE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E1D30-E488-42FC-A8C2-8BAAEC72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86557-2ABC-4C4B-8C4D-70C0B852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94794-51BE-4248-87DC-5E6ED24F8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4E53-2442-4D80-B665-1C646C662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5ABBB-E2A2-4210-91F0-61451CD59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DED80-31B0-4E17-B686-8258B72D6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5AD62-F90C-41C8-B6F4-4A2FCAE8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E39E6-B5B1-4548-8C7D-2CE4387B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4D34B-5AF5-4680-B90F-D58A18C8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8B0B2-14AC-484A-9883-297341A3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68924-E8E2-4976-862B-281237F6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9B4E4-ADD7-4DEA-BDAF-23DED10A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B7D79-5589-4729-892E-510D5FAC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B1EAF-F5FF-4206-A6F6-AEA8BC3F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2D6D-DB64-4D41-8BA4-1BE7423C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7D075-8C26-4477-9941-04861EB6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D15C6-7046-4F2F-9917-923CE919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08F6A-ED61-4A48-BCFF-91FE9FED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334E3-A729-458B-B34E-AA244D82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DB0D3C-CF1D-484A-871C-F5DA693D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067CDA-FC95-448E-ACF6-7962DFC0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202BB-D037-4439-83C5-34CB7240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5934D3-DDB9-4F01-9242-8A1837D8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EB74C-3105-49DC-A9B0-A9EFF4B9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049E23-1A02-4947-9F81-1A57A1DD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36F0-98D1-4216-9692-0DA419FE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CC28C-8BE8-441B-9CE3-1694A76A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6887B-6C14-4CA4-A368-E9544EEA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9C3A6E-35BB-4B70-A4D0-F128CDF4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7BD7F-7D62-4B12-B05E-5FF9E7B4C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CB0CD1-F5F1-4F95-A32A-A1262F28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8F6261-FEE2-408B-AF17-B9801754F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363BA4-76C5-4386-A28F-32485639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663084-7376-41DE-BFC2-DB82C564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484547-D743-42D9-9C41-4F259E16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712C4B-8C06-4D1C-846F-F543F78D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9C61-D877-4402-9A50-520A07C9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6E84F6-4D38-49C3-B4D5-E3D314D1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12E858-3584-49B0-81AB-EE0E91BF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061496-1917-4733-8C91-C49E4B00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8DF987-BB61-42A3-9184-808919B7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73F955-4630-497A-AC6E-7FE03183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ABA453-CBEC-41A8-89FA-C08373A77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57B37C-03FB-4D3A-978E-215F227E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05F23B-A0D9-44DE-9F95-F04AFA11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5BF2D0-A15A-4DCB-9185-C5F54CA3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E33755-2D1E-43BC-8A43-3E3C6DA0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278D-9E0E-4140-B044-27B1285D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DF717F-6B35-4F85-B331-6F813899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9592F8-6AE6-4552-80A3-E3CB97F0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6E3B37-3BD4-48FD-A21C-14E68F18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40AABE-1324-4C5D-B406-ADA985D5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092D00-BAC4-4DFF-B631-36465590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C164A9-B0A6-41B3-89A3-9D22F8CE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9148F6-0184-46D7-B517-AD656769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AC5DBA-7C9B-4E2E-ADE7-87C458CA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286C69-811B-4D98-BEFE-00E6726A4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933BF1-BF82-4948-AFA1-42040A0FF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585F-E52C-4BF8-BA37-88290AAC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2915D4-99D6-46B0-BC9A-175362B2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1585A9-8BA5-43CF-BF74-37952B68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278861-3CC7-44CD-A938-261E43D0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DBE6AF-F461-4877-9106-B03E7CBE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B27D57-A168-4DB2-A464-1FFD3F75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BEED7B-023E-4EC8-B9AE-4E75702D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61B23B-1AD5-481A-957D-F55A9E20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0BBAD2-C3FF-41DD-9677-91EF33E1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8FA7B4-3190-457A-9729-3E2351EE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593D8E-838C-442D-8E20-1A0E811B7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FD8E-12AD-4EF8-8DB9-252D8188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43B018-BDE3-4DEC-A2BA-195AB4FFD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B2773F-5C46-4C5C-AABA-C06B3715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A6A17E-047A-4BEC-BCF3-DD238D71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3F3648-6056-4D75-9092-FEEA1B64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F608D0-0834-4F74-BF80-BE0E6AB9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D1E4B9-176F-4716-A953-EA782D20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3538EF-3564-4B88-87C1-56223BD1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86D241-3378-49D1-ACE9-BE2E24E6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F4FFE8-29A9-4020-977A-84CE9C49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97E36E-2214-4741-9F8F-265B14E8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08AA-544B-433F-A185-B82A9830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ED8579-5370-4E9B-A676-F7F3AEEA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4DCD3F-EF42-4789-9D66-9EDC360B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7316F5-F33A-4EDE-BEF6-33CA3DA0A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ED08CC-B6C5-45C3-99B4-40CEBFD0E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738838-FB28-4537-8A79-19502C39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C604E7-F39C-4640-9906-10E7159E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9B9677-6955-49F7-92F2-B840457B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9BE395-4066-47EF-8668-46EFAF9A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D40BC1-5B76-4838-80B6-6A560240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8A478E-D25F-450F-8FDA-4A76B384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00A3-8597-46E1-AD95-CA806BAC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ABFE-6CFF-4653-8A75-9283EE3B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8A57CE-EB8D-498E-8BE5-99F74077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CA0814-4AAE-43AD-B1BA-23FD4879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246D72-6180-473F-A1A2-656B448E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10B0BB-5504-47C2-B974-719CFFB6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7D865A-ABED-41DC-9BA6-F429090DF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84A3E9-76D9-41FF-9F15-FDF4ADD02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03E79B-41DB-45DD-9F09-3AE344A3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BE43F5-6A43-4F80-9720-3204CAE1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4358B6-B717-43CF-916C-40016C06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251501-A654-432E-9B3C-70A5C8A4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C5B9-6655-4D19-8FCC-5303BBF7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C2B3D2-1427-42E2-A0A8-5BFAFB26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737290-2DBB-4AAD-85AF-08B5FF36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B522F6-0DE7-49E9-B85F-32A70B49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FF59E6-E01C-4925-AFCA-C4434277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75B138-81FC-4886-90B2-DEF2DC3B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B6A419-62C0-4558-AC26-23322C520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66805D-8C4B-42F7-ABD3-0283D95D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C3BE91-C7DE-4F0A-9FFA-D4C9503B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3EE83E-5E9F-490B-8321-B1F2388C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24EE0C-9BAD-433E-9E46-4B6C3067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B6BD-049F-412F-9A9C-65FDCBA9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8E9253-48A8-4BF4-9E3D-8421CB3B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70D0B4-1F8A-48CC-80E7-3FC919C1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EE4740-8365-4995-B716-7F89AB16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54061A-6DD6-4938-9F66-FC58D686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1CA9DA-F85E-47B9-AB88-87FA12DB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820B5A-0AEA-46C2-B9C7-B4801CEF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4C2B3E-7374-44A8-B580-8A40F5C8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3451B0-7DBD-44EB-9D0E-7C446C0E3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C1A398-3703-4B63-9DA4-F195F642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1DA348-FC37-4453-B23E-447EE0AD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6DD2-5E6C-405F-8DA2-25C9870A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79AB7D-9AAD-4F3A-A0A0-705C61CF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F7BA08-EF95-4F82-B8D0-AF081F41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15B534-E98A-4295-9FDA-71B64FC0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630EF3-B7C1-46E5-8514-E9822437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9D7C77-6661-439D-93AD-501C2A41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6FDC77-0F17-4924-8CF2-34A61A11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964A55-3A89-465B-85AA-426ADDE6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C1FB44-7EB8-41EB-929B-9A58F9BF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B9FF27-0023-4582-9AEC-07E2C714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4B47A2-248F-45AC-9730-9A6836CC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72A5-EC79-450A-ABA8-F1F96BDB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6B0DAB-A34B-4DC1-8561-FBD13A91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12E2C0-EA6B-409C-99DC-D46A28194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A0B8B3-10B7-4631-A9E2-99503ECF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BDDFBC-91E7-46D1-9164-D4C3D38A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79B671-1545-4552-9FB8-DE60A9F8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498C74-C1DB-41FF-9105-1CE90E91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A488F8-A241-4C13-93DD-4FD72DFA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C84063-1A11-48C2-A0E3-2C60DABF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99422E-4371-4196-A84F-49333CB3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C6548C-FF24-4229-A4AC-975A5102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F8E0E-59FA-473F-AA14-9349F7FE6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C7CCA5-64A1-4408-9D27-4099F974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29D7AC-9595-42DF-9498-8C463615D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ED7DDF-AD6C-4FD3-B750-C23BB5ED1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60B9C-A2A3-42DB-943D-06C775CC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6EDF3-9AAF-464A-8D80-30A4CC0D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C4B4D-6FF2-4314-9843-E3DB84A6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CBD32-8D8A-4704-9707-FE449424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B1B7-25B8-4386-97C6-F6269CFD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07EB9-24AC-4CEB-80E3-91531F78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A1C13-65EA-414F-B262-10D2BFBD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3E295-DF36-4D56-AECE-98D143F9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3021C-29AF-45DC-9267-57FF937C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C184E-37CE-42AA-8A6A-B9E1E0B9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6E870-04A2-446E-817E-17221C89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DB3CE-A2DD-481F-8240-56DA547E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31B9E-33DC-4F2C-97A8-85BCC46C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C14FD-A02F-42A8-B1B1-BE860380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25E6A-2397-41B1-9316-78B88215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1A80-0B95-4097-B6CF-14268F36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7B4A0-D520-4C31-96FC-939392CC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3C243-440A-4ADE-BA26-7388358D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27D28-64EA-4A2D-8F04-5B2CD387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FBADF-493F-4912-B708-98782599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CC0D6-7FF7-482F-828D-26EF2DF0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772B6-6F67-4E94-964B-FF1F2645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ED5CC-89CF-473C-A29F-DBD5E48C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05AAF-C04C-4A43-A19A-920AD34FD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3E4D4-E4F2-413A-95F7-C7C2AB8F9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9BB9C-DF1A-4478-BA0A-992B5F8A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10E9-F0FC-4A7B-A04C-EC962023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6C6F1-7B86-4609-A059-1F72CE59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161CD-81BA-4E43-84BC-205F1667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56F27-49C1-4AF3-980D-D4526E35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99B67-FEB8-4BF8-8674-4FE8991E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5AE7B-12A5-46C2-B1DF-96A232D0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07CD9-C9B7-4FCF-BC18-6DBD3925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F2DF2-E1A1-4DCE-9A83-A45DC142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E354E-883B-4A4E-A012-7747F9DF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83F76-9E15-4AB5-BB6A-102760C0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0DFD1-6CCD-412A-82FD-079E9DDD8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DA31-5C48-423A-96F3-A44B973D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13A93-50AB-4BF2-A686-BCD6C1CEA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08BD6-8534-4505-8CE3-17F6736E1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2013E-4FB4-4B8D-93DE-7E99554E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E5FF0-3366-49C4-AD25-8430E5EB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2D502-4AFC-47BB-A0F3-F1A85D01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78610-CCC2-434D-86E4-6C94C806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6AA2C-4AFA-4A9E-8704-70C422CE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9239F-97E1-4A88-A865-113AE9B5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0CC5D-B321-4371-9B37-CCE042B1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0AB1D-48F1-458D-9094-F89098BC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4567-32B7-4394-9A32-AE6569C2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AAD30-5F20-4082-B2CE-F7139663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57545-BF9C-4722-A5DC-4C9341E94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DAAE0-62E2-4A28-A7D0-C3BF49EA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7EDFA-142B-4A31-B135-31F1D7C52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C302D-0EBA-4D08-ADC6-433C58F9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19491-221A-4BA9-876B-1373E9E1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05C30-1BA4-42A0-B9DE-DC9B7D3E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6C95F-33AD-46F6-9261-B26911C5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56001-B35D-4FDF-9784-B9035C39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2364B-6FDB-4AD2-BC18-6A21AD76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FF3D-C73F-4CD5-8A08-9D230F3A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0D8CC-19A3-4523-9854-B08ED1C4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53AFC-9A88-4C7C-8DE6-0E509056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FB08C-711D-4598-88AA-D6447AF1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56782-7B45-47AD-8BE7-15ECBA9D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EFCEE-4ACC-4B74-9BC7-8BA4FBA3E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C21FD-9DD2-4E51-B8BC-E2957C9D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948A3-6366-47E1-94F5-243D91E7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D340C-FA19-4C0B-89E3-408FEB17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59E8F-BCE1-4341-AEEF-D019E98A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89944-0183-4A4C-B716-75A92F07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4DCE-B02D-48D9-B0D2-40F47E2D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18F3C-EA69-46F8-80B6-2DC595A5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5BCCC-DB77-41F2-AEDE-B10BBDE0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BF240-2FFD-456C-9DCF-87B98A33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22FCD-52AF-4DCB-93E5-1040367E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05777-516E-490A-B0B9-8A5E6866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3C9F7-D010-4012-BE18-811A1A37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3EE5A-513E-439A-8FA0-D0E1D98EE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3BEDC-D331-4EC7-B1F0-7C2EA299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E74E9-891B-4960-BDC8-3B3918A7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88AA4-EC60-4E4B-8F6D-AC9B8229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08F4-94CC-4976-AD97-A1F4EC4E78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063A-204F-4CC7-9BAA-2DBB491324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7A06-33EB-4452-AB8C-A633543C28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A06F-E3FB-41E0-A129-5649F97C29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1A41-8BF1-4A79-BC3A-A53EE727BE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6649-7521-4489-886D-8CBBE092C5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5B50-D866-4A19-825C-2A26078C19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1FCD-3C9A-430D-BB64-DDC77C2B42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102E-4829-41F6-BA99-243AF99625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9DC0-01F1-479A-84BB-D98326A9E9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AFC5-F080-4ED1-A933-BA450D7857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3F66-968D-4D46-9AA8-7AC23CEECF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FA4C-3631-4373-A552-CC67222413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886F-5967-49DB-B38D-A76BF320CD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3123-8ECB-45FA-A783-BF752683B8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31A3-92BA-4C2E-9782-EA8F16F16B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9FCE-7EDD-4590-AB2C-FB372089E0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B554-2988-4469-86E2-8437E65ABE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9DDD-CBD9-4E7D-AF3A-1E9070BFF1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E431-C6A5-4F66-B6EF-309CFB335F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A816-1791-452C-9296-0343867395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7B66-5E60-42A8-80E6-12100CCD3B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5CC5-D782-4310-A226-5774880F03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52BE-6F3A-4820-A4AD-EC7A42725C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5D76-4F72-439C-8BD5-F2B4219865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3C9B-453B-4B44-B4CE-968D7EC5CE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06CE-DBA2-476E-B48D-245934A0E8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DDB7-9E9D-4494-BE3E-843313FCC9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7032-E76D-4A20-BC8D-C0BB9AAEB8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651F-257F-4801-8233-159B18B527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F773-C4A7-45C3-8A80-ACF170A67A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F931-49BF-48FB-8821-AA6B2DC8B0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523B-73C5-4E87-B1E4-949AE4E5EE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7D39-133D-4CA9-B71A-2F4D078F7D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E2FA-7668-4F1D-8080-BCE17479E4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8625-E72A-4738-918F-4B09B45CFD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8F97-B217-4CC6-ABB9-7E342C5C58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AB6C-7DDD-4476-A6F9-EF3DFE24BB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4E7E-AFF9-4899-9466-C397517EA5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3931-A006-425A-8591-4ECFFF2E06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610000" y="3200400"/>
            <a:ext cx="39240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66680" y="1185840"/>
            <a:ext cx="8810640" cy="44863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4211640" y="24210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4211640" y="279072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4427640" y="415908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4427640" y="457200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4427640" y="497052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4481640" y="5364000"/>
            <a:ext cx="28872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395280" y="743040"/>
            <a:ext cx="8353440" cy="57816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5705640" y="292428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3203640" y="329400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4788000" y="559908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7020000" y="6184800"/>
            <a:ext cx="28872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8373" descr=""/>
          <p:cNvPicPr/>
          <p:nvPr/>
        </p:nvPicPr>
        <p:blipFill>
          <a:blip r:embed="rId1"/>
          <a:stretch/>
        </p:blipFill>
        <p:spPr>
          <a:xfrm>
            <a:off x="1114560" y="2548080"/>
            <a:ext cx="6914880" cy="1761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3122640" y="342900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6084720" y="3879720"/>
            <a:ext cx="28908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22:49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